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123-445F-4F59-BA33-D117C07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ACC-FCD1-4A9A-AE5A-647764F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93A-2774-4840-924A-B3447C1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028-4D12-4581-BA77-2EB68A12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22C-E91B-48DC-876E-B0B8FA8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BFE-5952-4B0D-B12A-E04F8C8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77F-6A64-4AD7-9F47-0F4B3080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FB5-B750-4D0B-98FD-4EC215A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92B-758F-4FDB-A0F9-5CC0DD8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416-5E58-469F-B29E-29E4373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9BC-4D73-4B48-8595-90182FF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AAA-123B-49A6-9EED-9D6035A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697-49CC-41AA-85D4-2A2AA9666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static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894760" y="373392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lomb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Torsion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Invented by Coulomb to measure very wea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Contributed in the creation of Coulomb’s Law by measuring Coulomb’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is same device was also used by Henry Cavendish to find the gravitational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age:Bcoulomb.png"/>
          <p:cNvPicPr/>
          <p:nvPr/>
        </p:nvPicPr>
        <p:blipFill>
          <a:blip r:embed="rId1"/>
          <a:stretch/>
        </p:blipFill>
        <p:spPr>
          <a:xfrm>
            <a:off x="5867280" y="1676520"/>
            <a:ext cx="3154320" cy="3698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5" name="Text Box 5"/>
          <p:cNvSpPr/>
          <p:nvPr/>
        </p:nvSpPr>
        <p:spPr>
          <a:xfrm>
            <a:off x="5867280" y="5410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굴림"/>
              </a:rPr>
              <a:t>Coulom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굴림"/>
              </a:rPr>
              <a:t>s sketch of his 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When an unknown force is applied to the metallic object or plates in the container, the object s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great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he force is, the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bigg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he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ulomb-Torsion-Balance"/>
          <p:cNvPicPr/>
          <p:nvPr/>
        </p:nvPicPr>
        <p:blipFill>
          <a:blip r:embed="rId1"/>
          <a:stretch/>
        </p:blipFill>
        <p:spPr>
          <a:xfrm>
            <a:off x="5562720" y="1676520"/>
            <a:ext cx="325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What is Coulomb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7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magnitud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of the electrostatic force between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wo point electric charg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ar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directly proportion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o the product of the magnitudes of each charge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inversely proportion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o the square of the distance between the charg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mla1"/>
          <p:cNvPicPr/>
          <p:nvPr/>
        </p:nvPicPr>
        <p:blipFill>
          <a:blip r:embed="rId1"/>
          <a:stretch/>
        </p:blipFill>
        <p:spPr>
          <a:xfrm>
            <a:off x="2743200" y="4876920"/>
            <a:ext cx="3809880" cy="1590480"/>
          </a:xfrm>
          <a:prstGeom prst="rect">
            <a:avLst/>
          </a:prstGeom>
          <a:ln w="57240">
            <a:solidFill>
              <a:srgbClr val="ccffcc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274320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굴림"/>
              </a:rPr>
              <a:t>The strongest formula in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ctrical repulsion between two balloons that are 2 meters apart each carrying a charge of -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2362320" y="4191120"/>
            <a:ext cx="914400" cy="0"/>
          </a:xfrm>
          <a:prstGeom prst="line">
            <a:avLst/>
          </a:prstGeom>
          <a:ln w="63360">
            <a:solidFill>
              <a:srgbClr val="cc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3200400" y="2057400"/>
            <a:ext cx="91440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90000" y="9907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charges of the same type repel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3352680" y="17524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63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181480" y="17524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08480" y="5029200"/>
            <a:ext cx="7672680" cy="703800"/>
          </a:xfrm>
          <a:prstGeom prst="rect">
            <a:avLst/>
          </a:prstGeom>
          <a:solidFill>
            <a:srgbClr val="000000"/>
          </a:solidFill>
          <a:ln w="60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wo charges will experience 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ushing them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pulling them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211400" y="3124080"/>
            <a:ext cx="66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charges of the opposite type attract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5867280" y="4191120"/>
            <a:ext cx="914400" cy="0"/>
          </a:xfrm>
          <a:prstGeom prst="line">
            <a:avLst/>
          </a:prstGeom>
          <a:ln w="63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2362320" y="3505320"/>
            <a:ext cx="761760" cy="1099440"/>
            <a:chOff x="2362320" y="3505320"/>
            <a:chExt cx="761760" cy="1099440"/>
          </a:xfrm>
        </p:grpSpPr>
        <p:sp>
          <p:nvSpPr>
            <p:cNvPr id="55" name="Oval 14"/>
            <p:cNvSpPr/>
            <p:nvPr/>
          </p:nvSpPr>
          <p:spPr>
            <a:xfrm>
              <a:off x="2438280" y="38862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362320" y="3505320"/>
              <a:ext cx="761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112E-017 L -0.25 5.55112E-01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5.55112E-017 L 0.25 5.55112E-017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175 5.55112E-017 E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5.55112E-017 L 0.175 5.55112E-017 E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11111E-006 L 0.14167 -1.11111E-006 E">
                                      <p:cBhvr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4167 -1.11111E-006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6 L 0.08333 -0.00231 E">
                                      <p:cBhvr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08333 -1.11111E-006 E">
                                      <p:cBhvr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4920" y="1066680"/>
            <a:ext cx="8461080" cy="703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mount of force that two charged object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three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2286000" y="373392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743200" y="4038480"/>
            <a:ext cx="3657600" cy="703440"/>
            <a:chOff x="2743200" y="4038480"/>
            <a:chExt cx="3657600" cy="703440"/>
          </a:xfrm>
        </p:grpSpPr>
        <p:sp>
          <p:nvSpPr>
            <p:cNvPr id="62" name="Line 7"/>
            <p:cNvSpPr/>
            <p:nvPr/>
          </p:nvSpPr>
          <p:spPr>
            <a:xfrm>
              <a:off x="2743200" y="4724280"/>
              <a:ext cx="365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345200" y="403848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9"/>
          <p:cNvSpPr/>
          <p:nvPr/>
        </p:nvSpPr>
        <p:spPr>
          <a:xfrm>
            <a:off x="1600200" y="1905120"/>
            <a:ext cx="579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he charge on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 charge on th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 distance between them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16080" y="5105520"/>
            <a:ext cx="680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Coulomb’s Law to calculate thi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762120" y="5638680"/>
                <a:ext cx="2197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12"/>
          <p:cNvSpPr/>
          <p:nvPr/>
        </p:nvSpPr>
        <p:spPr>
          <a:xfrm>
            <a:off x="3429000" y="5715000"/>
            <a:ext cx="4572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nstant for Coulomb’s Law is “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” i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ECTROSTATIC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99 x 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∙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omb vs. New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752480" y="1828800"/>
                <a:ext cx="1981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4"/>
          <p:cNvSpPr/>
          <p:nvPr/>
        </p:nvSpPr>
        <p:spPr>
          <a:xfrm>
            <a:off x="1216080" y="533520"/>
            <a:ext cx="6838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carefully at the Coulomb’s Law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29200" y="1828800"/>
                <a:ext cx="2133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1826280" y="990720"/>
            <a:ext cx="5842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equation looks very much 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ton’s Law of Universal Gravi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064240" y="3429000"/>
            <a:ext cx="5085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h have 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VERSE SQUA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533520" y="4267080"/>
            <a:ext cx="3124080" cy="2288520"/>
            <a:chOff x="533520" y="4267080"/>
            <a:chExt cx="3124080" cy="2288520"/>
          </a:xfrm>
        </p:grpSpPr>
        <p:sp>
          <p:nvSpPr>
            <p:cNvPr id="75" name="Rectangle 9"/>
            <p:cNvSpPr/>
            <p:nvPr/>
          </p:nvSpPr>
          <p:spPr>
            <a:xfrm>
              <a:off x="533520" y="4267080"/>
              <a:ext cx="3124080" cy="228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1143000" y="4495320"/>
              <a:ext cx="0" cy="1600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1143000" y="6095880"/>
              <a:ext cx="1981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1295280" y="4572000"/>
              <a:ext cx="1600200" cy="1397160"/>
            </a:xfrm>
            <a:custGeom>
              <a:avLst/>
              <a:gdLst/>
              <a:ahLst/>
              <a:rect l="l" t="t" r="r" b="b"/>
              <a:pathLst>
                <a:path w="1008" h="880">
                  <a:moveTo>
                    <a:pt x="0" y="0"/>
                  </a:moveTo>
                  <a:cubicBezTo>
                    <a:pt x="4" y="152"/>
                    <a:pt x="8" y="304"/>
                    <a:pt x="48" y="432"/>
                  </a:cubicBezTo>
                  <a:cubicBezTo>
                    <a:pt x="88" y="560"/>
                    <a:pt x="112" y="696"/>
                    <a:pt x="240" y="768"/>
                  </a:cubicBezTo>
                  <a:cubicBezTo>
                    <a:pt x="368" y="840"/>
                    <a:pt x="688" y="848"/>
                    <a:pt x="816" y="864"/>
                  </a:cubicBezTo>
                  <a:cubicBezTo>
                    <a:pt x="944" y="880"/>
                    <a:pt x="976" y="872"/>
                    <a:pt x="1008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87240" y="4879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1830600" y="60958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5"/>
          <p:cNvSpPr/>
          <p:nvPr/>
        </p:nvSpPr>
        <p:spPr>
          <a:xfrm>
            <a:off x="4187160" y="4800600"/>
            <a:ext cx="443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vitational force concern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omb force is abou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15833 0.02824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228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could be measured in electron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y are too small to count.  Instead we measure charg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omb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6 billion billion electr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.2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8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/Coulomb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bout 1 meter of light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320" y="259092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electrons in     5 microCoulo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38098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rge on object with 1 million electrons rubbed onto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4800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rge on 1 electr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two electrons 1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gravitational force betwee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ends on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electrostatic force betwee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ends on 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678120" y="5181480"/>
                <a:ext cx="5064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3429000" y="2666880"/>
                <a:ext cx="5416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5257800" y="1676520"/>
                <a:ext cx="2133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7"/>
          <p:cNvSpPr/>
          <p:nvPr/>
        </p:nvSpPr>
        <p:spPr>
          <a:xfrm>
            <a:off x="5671440" y="3505320"/>
            <a:ext cx="1523520" cy="36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54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5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5410080" y="42670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 Box 9"/>
          <p:cNvSpPr/>
          <p:nvPr/>
        </p:nvSpPr>
        <p:spPr>
          <a:xfrm>
            <a:off x="5595480" y="6095880"/>
            <a:ext cx="1523520" cy="368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0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9480" y="708120"/>
            <a:ext cx="8229600" cy="703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static force is MUCH stronger thangravitational force for small, charged objects like electrons and proton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80880" y="4572000"/>
                <a:ext cx="2362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3365640" y="4572000"/>
                <a:ext cx="5321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Oval 5"/>
          <p:cNvSpPr/>
          <p:nvPr/>
        </p:nvSpPr>
        <p:spPr>
          <a:xfrm>
            <a:off x="14479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934320" y="2666880"/>
            <a:ext cx="76176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4840" y="838080"/>
            <a:ext cx="8655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lectrostatic force between these two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790640" y="3657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59200" y="29844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= 2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61720" y="3889440"/>
            <a:ext cx="13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99160" y="3886200"/>
            <a:ext cx="13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+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4876920" y="5816520"/>
                <a:ext cx="2720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3"/>
          <p:cNvSpPr/>
          <p:nvPr/>
        </p:nvSpPr>
        <p:spPr>
          <a:xfrm>
            <a:off x="1094040" y="1447920"/>
            <a:ext cx="6819120" cy="106884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negative answer shows th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380880" y="4572000"/>
                <a:ext cx="2362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124080" y="4648320"/>
                <a:ext cx="5778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Oval 5"/>
          <p:cNvSpPr/>
          <p:nvPr/>
        </p:nvSpPr>
        <p:spPr>
          <a:xfrm>
            <a:off x="14479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69343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2960" y="685800"/>
            <a:ext cx="8655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lectrostatic force between these two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790640" y="3657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92680" y="29844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= 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069560" y="3889440"/>
            <a:ext cx="14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5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544800" y="3886200"/>
            <a:ext cx="14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2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2"/>
              <p:cNvSpPr txBox="1"/>
              <p:nvPr/>
            </p:nvSpPr>
            <p:spPr>
              <a:xfrm>
                <a:off x="5091120" y="5851440"/>
                <a:ext cx="2289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1170360" y="1371600"/>
            <a:ext cx="6706440" cy="106884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ositive answer shows th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UL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굴림"/>
              </a:rPr>
              <a:t>Charles Augustin de Coulom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orn in 1736, died in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Born in 1736, died in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Created a device that helped him develop his theories on charges and electric force an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orsion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reated a device that helped him develop his theories on charges and electric force an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orsion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age:Coulomb.jpg"/>
          <p:cNvPicPr/>
          <p:nvPr/>
        </p:nvPicPr>
        <p:blipFill>
          <a:blip r:embed="rId1"/>
          <a:stretch/>
        </p:blipFill>
        <p:spPr>
          <a:xfrm>
            <a:off x="5257800" y="1981080"/>
            <a:ext cx="3429000" cy="4035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2:43:27Z</dcterms:created>
  <dc:creator>SOCSD</dc:creator>
  <dc:description/>
  <dc:language>en-US</dc:language>
  <cp:lastModifiedBy>"%username%"</cp:lastModifiedBy>
  <cp:lastPrinted>2015-02-04T13:45:04Z</cp:lastPrinted>
  <dcterms:modified xsi:type="dcterms:W3CDTF">2015-02-10T17:24:01Z</dcterms:modified>
  <cp:revision>5</cp:revision>
  <dc:subject/>
  <dc:title>Slide 1</dc:title>
</cp:coreProperties>
</file>